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CB0E-DD74-4261-A767-86B1406C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2204-49A9-4961-B748-78FE845D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93A-D2B9-4F71-8D65-725D52BF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F6A-D482-4BF9-9490-DCE676FA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E4F-7BD6-4EAA-A5FA-2F711D35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BF81-B2AB-4703-9AA9-8D30EDC0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13C0-F5B7-4D5D-B313-DAA381FB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F9D-518A-4E05-8F1D-5A6A8117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352-145E-44C6-A267-BEF561B3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BAC9-31D9-44A1-BA34-A7C64546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B12-2B6C-4180-8480-63FF7160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B1B-75B2-44C1-9955-B63C94ED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6C94-5110-46B8-A1BF-BDB0DC625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450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8" descr="Cards-1-2-3"/>
          <p:cNvPicPr/>
          <p:nvPr/>
        </p:nvPicPr>
        <p:blipFill>
          <a:blip r:embed="rId1"/>
          <a:stretch/>
        </p:blipFill>
        <p:spPr>
          <a:xfrm>
            <a:off x="76320" y="0"/>
            <a:ext cx="5943600" cy="2852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7" descr="Cards-4-5-6"/>
          <p:cNvPicPr/>
          <p:nvPr/>
        </p:nvPicPr>
        <p:blipFill>
          <a:blip r:embed="rId2"/>
          <a:stretch/>
        </p:blipFill>
        <p:spPr>
          <a:xfrm>
            <a:off x="228600" y="2819520"/>
            <a:ext cx="6095880" cy="2895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9"/>
          <p:cNvSpPr/>
          <p:nvPr/>
        </p:nvSpPr>
        <p:spPr>
          <a:xfrm>
            <a:off x="0" y="6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0" y="329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1"/>
          <p:cNvSpPr/>
          <p:nvPr/>
        </p:nvSpPr>
        <p:spPr>
          <a:xfrm>
            <a:off x="2286000" y="6110640"/>
            <a:ext cx="434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1. Completed questionnaires for participant 1 through 6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7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17"/>
          <p:cNvSpPr/>
          <p:nvPr/>
        </p:nvSpPr>
        <p:spPr>
          <a:xfrm>
            <a:off x="0" y="12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8"/>
          <p:cNvSpPr/>
          <p:nvPr/>
        </p:nvSpPr>
        <p:spPr>
          <a:xfrm>
            <a:off x="0" y="12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03" descr=""/>
          <p:cNvPicPr/>
          <p:nvPr/>
        </p:nvPicPr>
        <p:blipFill>
          <a:blip r:embed="rId1"/>
          <a:srcRect l="15237" t="13228" r="12857" b="32299"/>
          <a:stretch/>
        </p:blipFill>
        <p:spPr>
          <a:xfrm>
            <a:off x="380880" y="1143000"/>
            <a:ext cx="8383680" cy="388620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4"/>
          <p:cNvSpPr/>
          <p:nvPr/>
        </p:nvSpPr>
        <p:spPr>
          <a:xfrm>
            <a:off x="228600" y="6553080"/>
            <a:ext cx="8763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60948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5260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3352680" y="6108120"/>
            <a:ext cx="3267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16. SPSS output viewer for Descriptiv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"/>
          <p:cNvPicPr/>
          <p:nvPr/>
        </p:nvPicPr>
        <p:blipFill>
          <a:blip r:embed="rId1"/>
          <a:srcRect l="16189" t="14008" r="15237" b="12842"/>
          <a:stretch/>
        </p:blipFill>
        <p:spPr>
          <a:xfrm>
            <a:off x="762120" y="665280"/>
            <a:ext cx="7385040" cy="482112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5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508"/>
          <p:cNvSpPr/>
          <p:nvPr/>
        </p:nvSpPr>
        <p:spPr>
          <a:xfrm>
            <a:off x="6477120" y="6016680"/>
            <a:ext cx="1692000" cy="460440"/>
          </a:xfrm>
          <a:prstGeom prst="borderCallout1">
            <a:avLst>
              <a:gd name="adj1" fmla="val 18750"/>
              <a:gd name="adj2" fmla="val -8333"/>
              <a:gd name="adj3" fmla="val -55518"/>
              <a:gd name="adj4" fmla="val -1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umber of people with no miss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513"/>
          <p:cNvSpPr/>
          <p:nvPr/>
        </p:nvSpPr>
        <p:spPr>
          <a:xfrm>
            <a:off x="3381480" y="3978360"/>
            <a:ext cx="5587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512"/>
          <p:cNvSpPr/>
          <p:nvPr/>
        </p:nvSpPr>
        <p:spPr>
          <a:xfrm>
            <a:off x="3510000" y="3638520"/>
            <a:ext cx="457200" cy="165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509"/>
          <p:cNvSpPr/>
          <p:nvPr/>
        </p:nvSpPr>
        <p:spPr>
          <a:xfrm>
            <a:off x="1619280" y="4991040"/>
            <a:ext cx="380880" cy="13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11"/>
          <p:cNvSpPr/>
          <p:nvPr/>
        </p:nvSpPr>
        <p:spPr>
          <a:xfrm>
            <a:off x="2178000" y="4059360"/>
            <a:ext cx="11048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10"/>
          <p:cNvSpPr/>
          <p:nvPr/>
        </p:nvSpPr>
        <p:spPr>
          <a:xfrm>
            <a:off x="7620120" y="4267080"/>
            <a:ext cx="95256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9333"/>
              <a:gd name="adj5" fmla="val -72319"/>
              <a:gd name="adj6" fmla="val -10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G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14"/>
          <p:cNvSpPr/>
          <p:nvPr/>
        </p:nvSpPr>
        <p:spPr>
          <a:xfrm>
            <a:off x="7547040" y="2133720"/>
            <a:ext cx="1139760" cy="685800"/>
          </a:xfrm>
          <a:prstGeom prst="borderCallout1">
            <a:avLst>
              <a:gd name="adj1" fmla="val 18750"/>
              <a:gd name="adj2" fmla="val -8333"/>
              <a:gd name="adj3" fmla="val 163657"/>
              <a:gd name="adj4" fmla="val -871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college is not meaning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15"/>
          <p:cNvSpPr/>
          <p:nvPr/>
        </p:nvSpPr>
        <p:spPr>
          <a:xfrm>
            <a:off x="6934320" y="762120"/>
            <a:ext cx="153648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-82750"/>
              <a:gd name="adj5" fmla="val 674652"/>
              <a:gd name="adj6" fmla="val -161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ghest and lowest GPA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16"/>
          <p:cNvSpPr/>
          <p:nvPr/>
        </p:nvSpPr>
        <p:spPr>
          <a:xfrm>
            <a:off x="25200" y="-720"/>
            <a:ext cx="694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SCRIP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S=recommen workhard college gender gpa reading homework extrac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STATISTICS=MEAN MIN M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18"/>
          <p:cNvSpPr/>
          <p:nvPr/>
        </p:nvSpPr>
        <p:spPr>
          <a:xfrm>
            <a:off x="-1440" y="760320"/>
            <a:ext cx="3177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ptive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33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43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56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65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890720"/>
          <a:ext cx="6477120" cy="3884760"/>
        </p:xfrm>
        <a:graphic>
          <a:graphicData uri="http://schemas.openxmlformats.org/drawingml/2006/table">
            <a:tbl>
              <a:tblPr/>
              <a:tblGrid>
                <a:gridCol w="2049480"/>
                <a:gridCol w="1106640"/>
                <a:gridCol w="1108080"/>
                <a:gridCol w="1106280"/>
                <a:gridCol w="1106640"/>
              </a:tblGrid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recommend 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worked 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le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e point 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did the 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did the home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did the extra cre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id N (listwi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Rectangle 749"/>
          <p:cNvSpPr/>
          <p:nvPr/>
        </p:nvSpPr>
        <p:spPr>
          <a:xfrm>
            <a:off x="0" y="52815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51"/>
          <p:cNvSpPr/>
          <p:nvPr/>
        </p:nvSpPr>
        <p:spPr>
          <a:xfrm>
            <a:off x="0" y="52815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52"/>
          <p:cNvSpPr/>
          <p:nvPr/>
        </p:nvSpPr>
        <p:spPr>
          <a:xfrm flipH="1">
            <a:off x="4571640" y="1905120"/>
            <a:ext cx="6858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53"/>
          <p:cNvSpPr/>
          <p:nvPr/>
        </p:nvSpPr>
        <p:spPr>
          <a:xfrm>
            <a:off x="3429000" y="3886200"/>
            <a:ext cx="2057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54"/>
          <p:cNvSpPr/>
          <p:nvPr/>
        </p:nvSpPr>
        <p:spPr>
          <a:xfrm>
            <a:off x="2590920" y="5410080"/>
            <a:ext cx="84276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55"/>
          <p:cNvSpPr/>
          <p:nvPr/>
        </p:nvSpPr>
        <p:spPr>
          <a:xfrm>
            <a:off x="5791320" y="3200400"/>
            <a:ext cx="84276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756"/>
          <p:cNvSpPr/>
          <p:nvPr/>
        </p:nvSpPr>
        <p:spPr>
          <a:xfrm>
            <a:off x="5867280" y="3581280"/>
            <a:ext cx="84312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23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ards-7-8-9"/>
          <p:cNvPicPr/>
          <p:nvPr/>
        </p:nvPicPr>
        <p:blipFill>
          <a:blip r:embed="rId1"/>
          <a:stretch/>
        </p:blipFill>
        <p:spPr>
          <a:xfrm>
            <a:off x="152280" y="152280"/>
            <a:ext cx="5410440" cy="2608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5333760" cy="2590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329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438280" y="5569920"/>
            <a:ext cx="446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2. Completed questionnaires for participants 7 through 1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6"/>
          <p:cNvSpPr/>
          <p:nvPr/>
        </p:nvSpPr>
        <p:spPr>
          <a:xfrm>
            <a:off x="228600" y="647712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Fig"/>
          <p:cNvPicPr/>
          <p:nvPr/>
        </p:nvPicPr>
        <p:blipFill>
          <a:blip r:embed="rId1"/>
          <a:stretch/>
        </p:blipFill>
        <p:spPr>
          <a:xfrm>
            <a:off x="228600" y="1171440"/>
            <a:ext cx="8534520" cy="4238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2590920" y="6248520"/>
            <a:ext cx="441936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3. A blank survey showing how to code the dat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0" y="37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59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59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7"/>
          <p:cNvSpPr/>
          <p:nvPr/>
        </p:nvSpPr>
        <p:spPr>
          <a:xfrm>
            <a:off x="228600" y="6553080"/>
            <a:ext cx="8686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439120" cy="4062240"/>
          </a:xfrm>
          <a:prstGeom prst="rect">
            <a:avLst/>
          </a:prstGeom>
          <a:ln w="0">
            <a:noFill/>
          </a:ln>
        </p:spPr>
      </p:pic>
      <p:sp>
        <p:nvSpPr>
          <p:cNvPr id="62" name="Oval 9"/>
          <p:cNvSpPr/>
          <p:nvPr/>
        </p:nvSpPr>
        <p:spPr>
          <a:xfrm>
            <a:off x="4467240" y="1870200"/>
            <a:ext cx="1163520" cy="53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4219560" y="2438280"/>
            <a:ext cx="657360" cy="20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048120" y="4419720"/>
            <a:ext cx="1450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Enter 2.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6019920" y="2152800"/>
            <a:ext cx="979200" cy="52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 flipH="1">
            <a:off x="6095880" y="2666880"/>
            <a:ext cx="152640" cy="16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5105520" y="43434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Enter 2.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8"/>
          <p:cNvSpPr/>
          <p:nvPr/>
        </p:nvSpPr>
        <p:spPr>
          <a:xfrm>
            <a:off x="6200640" y="1530360"/>
            <a:ext cx="10130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 flipH="1">
            <a:off x="7085160" y="309600"/>
            <a:ext cx="5889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7237440" y="246240"/>
            <a:ext cx="137304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Enter 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7172280" y="2517840"/>
            <a:ext cx="1533600" cy="53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7772400" y="3048120"/>
            <a:ext cx="1440" cy="13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858000" y="4343400"/>
            <a:ext cx="1384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Enter 3.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0" y="190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0" y="190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0" y="461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0" y="461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18"/>
          <p:cNvSpPr/>
          <p:nvPr/>
        </p:nvSpPr>
        <p:spPr>
          <a:xfrm>
            <a:off x="228600" y="6553080"/>
            <a:ext cx="8686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181080" y="809640"/>
            <a:ext cx="8799480" cy="42242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2"/>
          <p:cNvSpPr/>
          <p:nvPr/>
        </p:nvSpPr>
        <p:spPr>
          <a:xfrm>
            <a:off x="1143000" y="0"/>
            <a:ext cx="1809720" cy="85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. Leave all variables blank, except enter 99, missing, for colle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2971800" y="380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6"/>
          <p:cNvGrpSpPr/>
          <p:nvPr/>
        </p:nvGrpSpPr>
        <p:grpSpPr>
          <a:xfrm>
            <a:off x="5181480" y="304920"/>
            <a:ext cx="2643480" cy="2242800"/>
            <a:chOff x="5181480" y="304920"/>
            <a:chExt cx="2643480" cy="2242800"/>
          </a:xfrm>
        </p:grpSpPr>
        <p:sp>
          <p:nvSpPr>
            <p:cNvPr id="83" name="Rectangle 20"/>
            <p:cNvSpPr/>
            <p:nvPr/>
          </p:nvSpPr>
          <p:spPr>
            <a:xfrm>
              <a:off x="5181480" y="304920"/>
              <a:ext cx="114840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. Enter 3.5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9"/>
            <p:cNvSpPr/>
            <p:nvPr/>
          </p:nvSpPr>
          <p:spPr>
            <a:xfrm>
              <a:off x="6012000" y="636120"/>
              <a:ext cx="329760" cy="10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8"/>
            <p:cNvSpPr/>
            <p:nvPr/>
          </p:nvSpPr>
          <p:spPr>
            <a:xfrm>
              <a:off x="6762240" y="632520"/>
              <a:ext cx="1062720" cy="3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. Enter 1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 flipH="1">
              <a:off x="6891480" y="995400"/>
              <a:ext cx="427320" cy="15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Oval 7"/>
          <p:cNvSpPr/>
          <p:nvPr/>
        </p:nvSpPr>
        <p:spPr>
          <a:xfrm>
            <a:off x="6324480" y="2514600"/>
            <a:ext cx="84312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62520" y="5181480"/>
            <a:ext cx="24159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. For now enter 9.67, but see accompanying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 flipH="1">
            <a:off x="5362200" y="3187800"/>
            <a:ext cx="631800" cy="19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858000" y="5029200"/>
            <a:ext cx="1276200" cy="85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. Enter 1 for reading and home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6562800" y="3811680"/>
            <a:ext cx="1041480" cy="11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0"/>
          <p:cNvGrpSpPr/>
          <p:nvPr/>
        </p:nvGrpSpPr>
        <p:grpSpPr>
          <a:xfrm>
            <a:off x="8091000" y="3124080"/>
            <a:ext cx="1052640" cy="1175040"/>
            <a:chOff x="8091000" y="3124080"/>
            <a:chExt cx="1052640" cy="1175040"/>
          </a:xfrm>
        </p:grpSpPr>
        <p:sp>
          <p:nvSpPr>
            <p:cNvPr id="93" name="Rectangle 12"/>
            <p:cNvSpPr/>
            <p:nvPr/>
          </p:nvSpPr>
          <p:spPr>
            <a:xfrm>
              <a:off x="8371800" y="3124080"/>
              <a:ext cx="771840" cy="117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1. Leave blank, missing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 flipH="1" flipV="1">
              <a:off x="8091000" y="3437280"/>
              <a:ext cx="310680" cy="50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3"/>
          <p:cNvGrpSpPr/>
          <p:nvPr/>
        </p:nvGrpSpPr>
        <p:grpSpPr>
          <a:xfrm>
            <a:off x="7848720" y="228600"/>
            <a:ext cx="1295280" cy="1675800"/>
            <a:chOff x="7848720" y="228600"/>
            <a:chExt cx="1295280" cy="1675800"/>
          </a:xfrm>
        </p:grpSpPr>
        <p:sp>
          <p:nvSpPr>
            <p:cNvPr id="96" name="Text Box 15"/>
            <p:cNvSpPr/>
            <p:nvPr/>
          </p:nvSpPr>
          <p:spPr>
            <a:xfrm>
              <a:off x="8204760" y="228600"/>
              <a:ext cx="939240" cy="40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. Enter 2.5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4"/>
            <p:cNvSpPr/>
            <p:nvPr/>
          </p:nvSpPr>
          <p:spPr>
            <a:xfrm flipV="1">
              <a:off x="7848720" y="664920"/>
              <a:ext cx="645480" cy="12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23"/>
          <p:cNvSpPr/>
          <p:nvPr/>
        </p:nvSpPr>
        <p:spPr>
          <a:xfrm>
            <a:off x="181080" y="0"/>
            <a:ext cx="1189656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182520" y="34956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1"/>
          <p:cNvSpPr/>
          <p:nvPr/>
        </p:nvSpPr>
        <p:spPr>
          <a:xfrm>
            <a:off x="2486160" y="1057320"/>
            <a:ext cx="1189656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2"/>
          <p:cNvSpPr/>
          <p:nvPr/>
        </p:nvSpPr>
        <p:spPr>
          <a:xfrm>
            <a:off x="182520" y="36612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1888200" y="5745960"/>
            <a:ext cx="5999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4. Completed survey with callout boxes showing we handled problem respons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25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9"/>
          <p:cNvSpPr/>
          <p:nvPr/>
        </p:nvSpPr>
        <p:spPr>
          <a:xfrm>
            <a:off x="6229440" y="1371600"/>
            <a:ext cx="1066680" cy="52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bl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4"/>
          <p:cNvSpPr/>
          <p:nvPr/>
        </p:nvSpPr>
        <p:spPr>
          <a:xfrm>
            <a:off x="6686640" y="2057400"/>
            <a:ext cx="1066680" cy="7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bl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2"/>
          <p:cNvSpPr/>
          <p:nvPr/>
        </p:nvSpPr>
        <p:spPr>
          <a:xfrm>
            <a:off x="6000840" y="2971800"/>
            <a:ext cx="25336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mean the data for this variable can be up to 8 digits including 2 decimal pl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8"/>
          <p:cNvSpPr/>
          <p:nvPr/>
        </p:nvSpPr>
        <p:spPr>
          <a:xfrm flipV="1">
            <a:off x="2781360" y="1752480"/>
            <a:ext cx="950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7"/>
          <p:cNvSpPr/>
          <p:nvPr/>
        </p:nvSpPr>
        <p:spPr>
          <a:xfrm>
            <a:off x="2876400" y="1752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5"/>
          <p:cNvSpPr/>
          <p:nvPr/>
        </p:nvSpPr>
        <p:spPr>
          <a:xfrm>
            <a:off x="5010120" y="2057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6"/>
          <p:cNvSpPr/>
          <p:nvPr/>
        </p:nvSpPr>
        <p:spPr>
          <a:xfrm>
            <a:off x="6076800" y="2057400"/>
            <a:ext cx="60984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3"/>
          <p:cNvSpPr/>
          <p:nvPr/>
        </p:nvSpPr>
        <p:spPr>
          <a:xfrm>
            <a:off x="3638520" y="2819520"/>
            <a:ext cx="232416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1"/>
          <p:cNvSpPr/>
          <p:nvPr/>
        </p:nvSpPr>
        <p:spPr>
          <a:xfrm>
            <a:off x="6610320" y="3970440"/>
            <a:ext cx="1257480" cy="90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hort variabl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0"/>
          <p:cNvSpPr/>
          <p:nvPr/>
        </p:nvSpPr>
        <p:spPr>
          <a:xfrm flipH="1">
            <a:off x="2495520" y="4046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1"/>
          <p:cNvSpPr/>
          <p:nvPr/>
        </p:nvSpPr>
        <p:spPr>
          <a:xfrm>
            <a:off x="1503360" y="944640"/>
            <a:ext cx="2421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(Position)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2"/>
          <p:cNvSpPr/>
          <p:nvPr/>
        </p:nvSpPr>
        <p:spPr>
          <a:xfrm>
            <a:off x="1506600" y="205596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3"/>
          <p:cNvSpPr/>
          <p:nvPr/>
        </p:nvSpPr>
        <p:spPr>
          <a:xfrm>
            <a:off x="1449360" y="1903680"/>
            <a:ext cx="348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ommen (1) I recommend 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4"/>
          <p:cNvSpPr/>
          <p:nvPr/>
        </p:nvSpPr>
        <p:spPr>
          <a:xfrm>
            <a:off x="1043640" y="1979640"/>
            <a:ext cx="412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asurement Level: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5"/>
          <p:cNvSpPr/>
          <p:nvPr/>
        </p:nvSpPr>
        <p:spPr>
          <a:xfrm>
            <a:off x="1046160" y="2589480"/>
            <a:ext cx="252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6"/>
          <p:cNvSpPr/>
          <p:nvPr/>
        </p:nvSpPr>
        <p:spPr>
          <a:xfrm>
            <a:off x="1043640" y="2607840"/>
            <a:ext cx="4127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00    strongly disa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.00    strongly a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8"/>
          <p:cNvSpPr/>
          <p:nvPr/>
        </p:nvSpPr>
        <p:spPr>
          <a:xfrm>
            <a:off x="1577160" y="3674520"/>
            <a:ext cx="4127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hard (2) I worked h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9"/>
          <p:cNvSpPr/>
          <p:nvPr/>
        </p:nvSpPr>
        <p:spPr>
          <a:xfrm flipV="1">
            <a:off x="2400480" y="4038480"/>
            <a:ext cx="950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9"/>
          <p:cNvSpPr/>
          <p:nvPr/>
        </p:nvSpPr>
        <p:spPr>
          <a:xfrm>
            <a:off x="152280" y="6553080"/>
            <a:ext cx="8763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1"/>
          <p:cNvSpPr/>
          <p:nvPr/>
        </p:nvSpPr>
        <p:spPr>
          <a:xfrm>
            <a:off x="5638680" y="838080"/>
            <a:ext cx="1438560" cy="8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variable has three unordered values so it is called nom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9"/>
          <p:cNvSpPr/>
          <p:nvPr/>
        </p:nvSpPr>
        <p:spPr>
          <a:xfrm>
            <a:off x="6477120" y="1905120"/>
            <a:ext cx="200016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missing values for this variable.  Most variables use blanks, which are the SPSS system missing value.  However, here we need two missing value c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7"/>
          <p:cNvSpPr/>
          <p:nvPr/>
        </p:nvSpPr>
        <p:spPr>
          <a:xfrm>
            <a:off x="5562720" y="3611520"/>
            <a:ext cx="228600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 after 98 and 99 shows that SPSS considers these numbers to be miss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5"/>
          <p:cNvSpPr/>
          <p:nvPr/>
        </p:nvSpPr>
        <p:spPr>
          <a:xfrm>
            <a:off x="4724280" y="4602240"/>
            <a:ext cx="1876680" cy="10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 call dichotomous (2 level) variables nominal, but they are a special case as discussed in Chapter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0"/>
          <p:cNvSpPr/>
          <p:nvPr/>
        </p:nvSpPr>
        <p:spPr>
          <a:xfrm flipH="1">
            <a:off x="3809880" y="1371600"/>
            <a:ext cx="1828800" cy="75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8"/>
          <p:cNvSpPr/>
          <p:nvPr/>
        </p:nvSpPr>
        <p:spPr>
          <a:xfrm flipH="1">
            <a:off x="3428640" y="2895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 flipH="1">
            <a:off x="4648320" y="411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H="1">
            <a:off x="3733920" y="48769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914400" y="56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924120" y="616680"/>
            <a:ext cx="246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927720" y="915120"/>
            <a:ext cx="356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00    strongly disa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.00    strongly a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lege (3)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927720" y="1828080"/>
            <a:ext cx="356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924120" y="2742480"/>
            <a:ext cx="255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ssing Values: 98, 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927720" y="3276000"/>
            <a:ext cx="356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arts and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928440" y="4007880"/>
            <a:ext cx="374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8 M  other, multiple 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9 M  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921600" y="4190400"/>
            <a:ext cx="17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nder (4) 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927720" y="4571280"/>
            <a:ext cx="356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18"/>
          <p:cNvSpPr/>
          <p:nvPr/>
        </p:nvSpPr>
        <p:spPr>
          <a:xfrm>
            <a:off x="228600" y="6477120"/>
            <a:ext cx="8686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8"/>
          <p:cNvSpPr/>
          <p:nvPr/>
        </p:nvSpPr>
        <p:spPr>
          <a:xfrm>
            <a:off x="6477120" y="914400"/>
            <a:ext cx="15620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the values or levels of the gender variable and their lab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572160" y="2514600"/>
            <a:ext cx="18860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variable has many ordered values; the possible valus are equally spaced and probably normally distributed so we called it sc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H="1">
            <a:off x="4266720" y="1295280"/>
            <a:ext cx="22100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 flipH="1" flipV="1">
            <a:off x="6019920" y="2209320"/>
            <a:ext cx="552240" cy="5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 flipH="1">
            <a:off x="464832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049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1914480" y="913680"/>
            <a:ext cx="246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915200" y="1356480"/>
            <a:ext cx="264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pa (5) grade point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1918440" y="2102760"/>
            <a:ext cx="356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1918440" y="2276280"/>
            <a:ext cx="356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Format: F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00    All F'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.00    All A'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g (6) I did the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not checked/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che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11"/>
          <p:cNvSpPr/>
          <p:nvPr/>
        </p:nvSpPr>
        <p:spPr>
          <a:xfrm>
            <a:off x="228600" y="6553080"/>
            <a:ext cx="8763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5"/>
          <p:cNvSpPr/>
          <p:nvPr/>
        </p:nvSpPr>
        <p:spPr>
          <a:xfrm>
            <a:off x="1253880" y="1468080"/>
            <a:ext cx="46612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omework (7) I did the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not checked, 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che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tracrd (8) I did the extra cr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not checked, 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che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28600" y="6553080"/>
            <a:ext cx="8686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6:19:22Z</dcterms:created>
  <dc:creator>gloeck</dc:creator>
  <dc:description/>
  <dc:language>en-US</dc:language>
  <cp:lastModifiedBy>Quick,Don</cp:lastModifiedBy>
  <dcterms:modified xsi:type="dcterms:W3CDTF">2012-06-17T18:12:39Z</dcterms:modified>
  <cp:revision>18</cp:revision>
  <dc:subject/>
  <dc:title>Slide 1</dc:title>
</cp:coreProperties>
</file>