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902-927C-4FDC-90D9-405B5F0E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6FF-70B9-4A2A-81FC-3DE1109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BE7-E61A-419D-8E2C-81F479CC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1A4-C307-4C2C-BD2D-9930DBC0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88B8-5379-47F1-BAE0-D1357678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A877-3C57-4741-B33C-3F8EE328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E04-AE7F-4FB0-84D2-BB16FD5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AB87-C0CB-493D-95B6-AA80F1FF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26E-4E89-4F1C-ADFB-17F254D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4F7-6365-4B16-9ACE-C6329BA9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BDB-CEFD-475E-86AD-86147B2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C02-5518-487D-811F-AFAB86B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FC6-7AAC-4955-A714-B560101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A2E7-C1D4-49DB-8FD5-9ECC8DC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472-E741-4CBF-9B7A-74202DC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77C7-D39B-48D0-BB90-6068350A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DDF-B714-427D-9BC7-7182D2A9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0A5-69D2-4A53-B5E1-D60AA863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124-40C3-4824-A1D4-1CA0369F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5C1-793C-4F5C-B305-7B674B8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50A-DCE9-4D13-A7D3-A411988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146-36AF-452B-896A-9363E32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EA5-CF78-4046-817B-800E837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454-896E-4FF7-8873-B1F39FB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0920" y="6324480"/>
            <a:ext cx="3124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A39-33FE-4D18-BF96-76639342DC7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68B4-E057-4EE0-9E50-CA8FF2507955}" type="slidenum">
              <a:rPr b="0" lang="en-CA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3141720"/>
            <a:ext cx="446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  <a:ea typeface="Arial"/>
              </a:rPr>
              <a:t>Chapter 2: Situational Crime Prevention</a:t>
            </a:r>
            <a:endParaRPr b="0" lang="en-US" sz="36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76720" y="50133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09680" y="404640"/>
            <a:ext cx="69343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Crime Prevention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Theory and Practi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8" descr="Lockit"/>
          <p:cNvPicPr/>
          <p:nvPr/>
        </p:nvPicPr>
        <p:blipFill>
          <a:blip r:embed="rId1"/>
          <a:stretch/>
        </p:blipFill>
        <p:spPr>
          <a:xfrm>
            <a:off x="6300720" y="2852640"/>
            <a:ext cx="257328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rebuchet MS"/>
                <a:ea typeface="Times New Roman"/>
              </a:rPr>
              <a:t>Broken Windows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3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inor incivilities, if unchecked &amp; uncontrolled, will promote more serious crim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civilities’ act as the catalyst: they represent signs of disorder &amp; signify that no one cares, that the environment lacks regul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olution: stop &amp; reverse the cycle of decline in its earliest stages by a focus on “order maintenance” &amp; aggressive policing of incivili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4" descr="Window1"/>
          <p:cNvPicPr/>
          <p:nvPr/>
        </p:nvPicPr>
        <p:blipFill>
          <a:blip r:embed="rId1"/>
          <a:stretch/>
        </p:blipFill>
        <p:spPr>
          <a:xfrm>
            <a:off x="5991120" y="1916280"/>
            <a:ext cx="248292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SCP Defini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crime prevention invol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measures directed at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pecific form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of crim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which involve the management, design or manipulation of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immediate environment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in which these crimes occur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o as to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reduce the opportunitie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these crimes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as perceived by </a:t>
            </a:r>
            <a:r>
              <a:rPr b="1" lang="en-CA" sz="2000" spc="-1" strike="noStrike">
                <a:solidFill>
                  <a:srgbClr val="eaeaea"/>
                </a:solidFill>
                <a:latin typeface="Trebuchet MS"/>
              </a:rPr>
              <a:t>a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broad range of potential offenders</a:t>
            </a: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Source: Clarke, 1997,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minal opportunity is reduced by: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the effort</a:t>
            </a:r>
            <a:r>
              <a:rPr b="1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volved in crime by making the targets harder to get at or hindering the commission of crime (e.g., target hardening, access control, exit &amp; entrance screen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the risks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, whether real or perceived, of detection &amp; apprehension (e.g., surveillance, screening, profil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the reward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(e.g., target removal, property marking, merchandise ink-tag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provocation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at may lead to criminal or violent behavi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pportunity for crime can be reduced directly &amp; indirectly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the immediate physical environment (e.g., target hardening, access control, target removal, etc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In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people to foster or reinforce their individual &amp; collective behaviour to minimize their vulnerability to crime (e.g., CPTED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c66"/>
                </a:solidFill>
                <a:latin typeface="Trebuchet MS"/>
              </a:rPr>
              <a:t>25 Opportunity Reduction Techniques</a:t>
            </a:r>
            <a:endParaRPr b="0" lang="en-US" sz="3200" spc="-1" strike="noStrike">
              <a:solidFill>
                <a:srgbClr val="ffcc66"/>
              </a:solidFill>
              <a:latin typeface="Trebuchet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7224840" cy="5260680"/>
        </p:xfrm>
        <a:graphic>
          <a:graphicData uri="http://schemas.openxmlformats.org/drawingml/2006/table">
            <a:tbl>
              <a:tblPr/>
              <a:tblGrid>
                <a:gridCol w="1608120"/>
                <a:gridCol w="56167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Effort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Harden target (deadbolt locks, fences, window ba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ccess control (entry phones,  prickly shrubs, psychological barrie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flect offenders (bus stop placement, tavern location, road closur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crime facilitators (gun control, plastic cups, caller ID, credit card photo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37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Risk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urveillance (CPTED, Neighborhood Watch,  street light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veillance by employees (undercover security, raised kiosk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tentional surveillance (security mirrors, CCTV, security guards, citizen patro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Entry / Exit screening (airport metal detectors, retail theft exit control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Guardianship (being at home, carrying a cell phone, police, security guard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lace managers (apartment manager, bus driver, teacher, flight attendant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anonymity (school uniforms, taxi id badges, “how’s my driving truck” deca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the Reward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roperty marking (engraving valuable electronics, automobile VIN, cattle brand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/ conceal targets (removable car stereo, move items to car trun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ny benefits (ink merchandise tags, security codes for electronics, graffiti removal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rupt markets for stolen goods (regulate/crack down on pawn shops, street vendo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Provocation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frustration &amp; stress (providing needed information to agitated peopl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void disputes (standardized taxi fares from airport to city centr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 arousal &amp; temptation (gender-neutral listings, restricting jobs for pedophil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Neutralize peer pressure (“Friends don't let friends drink &amp; drive” ad campaign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courage imitation (regulate violence in movies, remove graffiti &amp; vandalism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8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Excuse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 rules (government laws, code of conduct regulations in taverns &amp; public plac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mulate conscience (roadside speedometers, “Shoplifting is stealing” sig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Facilitate compliance (easy library checkout, public lavatories, public trash bi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Control disinhibitors (no liquor after a certain time, V-chip, ignition loc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ost instructions (road signs, code of conduct sign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tiques of SCP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52480" y="1447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676520" y="1523880"/>
            <a:ext cx="6858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nly addresses the symptoms of crime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Does not prevent crime, may displace it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ffenders do not always act ration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simplifies relationship between physical environment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&amp; human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emphasizes property crime (e.g., ignores domestic violen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ay undermine informal social 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urveillance can be intrusive &amp; may infringe upon privac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oncentrates crime in poor areas/may be socially divisive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cc66"/>
                </a:solidFill>
                <a:latin typeface="Trebuchet MS"/>
              </a:rPr>
              <a:t>Situational vs. Social Development</a:t>
            </a:r>
            <a:endParaRPr b="0" lang="en-US" sz="3800" spc="-1" strike="noStrike">
              <a:solidFill>
                <a:srgbClr val="ffcc66"/>
              </a:solidFill>
              <a:latin typeface="Trebuchet MS"/>
            </a:endParaRPr>
          </a:p>
        </p:txBody>
      </p:sp>
      <p:grpSp>
        <p:nvGrpSpPr>
          <p:cNvPr id="127" name="Group 101"/>
          <p:cNvGrpSpPr/>
          <p:nvPr/>
        </p:nvGrpSpPr>
        <p:grpSpPr>
          <a:xfrm>
            <a:off x="1371600" y="1371600"/>
            <a:ext cx="7238520" cy="4876920"/>
            <a:chOff x="1371600" y="1371600"/>
            <a:chExt cx="7238520" cy="4876920"/>
          </a:xfrm>
        </p:grpSpPr>
        <p:grpSp>
          <p:nvGrpSpPr>
            <p:cNvPr id="128" name="Group 99"/>
            <p:cNvGrpSpPr/>
            <p:nvPr/>
          </p:nvGrpSpPr>
          <p:grpSpPr>
            <a:xfrm>
              <a:off x="1375200" y="1373760"/>
              <a:ext cx="7230600" cy="4872240"/>
              <a:chOff x="1375200" y="1373760"/>
              <a:chExt cx="7230600" cy="4872240"/>
            </a:xfrm>
          </p:grpSpPr>
          <p:grpSp>
            <p:nvGrpSpPr>
              <p:cNvPr id="129" name="Group 38"/>
              <p:cNvGrpSpPr/>
              <p:nvPr/>
            </p:nvGrpSpPr>
            <p:grpSpPr>
              <a:xfrm>
                <a:off x="1375200" y="1373760"/>
                <a:ext cx="1432440" cy="414360"/>
                <a:chOff x="1375200" y="1373760"/>
                <a:chExt cx="1432440" cy="41436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1451160" y="137376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7"/>
                <p:cNvSpPr/>
                <p:nvPr/>
              </p:nvSpPr>
              <p:spPr>
                <a:xfrm>
                  <a:off x="1375200" y="137376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40"/>
              <p:cNvGrpSpPr/>
              <p:nvPr/>
            </p:nvGrpSpPr>
            <p:grpSpPr>
              <a:xfrm>
                <a:off x="2808000" y="1373760"/>
                <a:ext cx="2759040" cy="414360"/>
                <a:chOff x="2808000" y="1373760"/>
                <a:chExt cx="2759040" cy="414360"/>
              </a:xfrm>
            </p:grpSpPr>
            <p:sp>
              <p:nvSpPr>
                <p:cNvPr id="133" name="Rectangle 7"/>
                <p:cNvSpPr/>
                <p:nvPr/>
              </p:nvSpPr>
              <p:spPr>
                <a:xfrm>
                  <a:off x="2883600" y="13737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ituation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39"/>
                <p:cNvSpPr/>
                <p:nvPr/>
              </p:nvSpPr>
              <p:spPr>
                <a:xfrm>
                  <a:off x="2808000" y="13737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42"/>
              <p:cNvGrpSpPr/>
              <p:nvPr/>
            </p:nvGrpSpPr>
            <p:grpSpPr>
              <a:xfrm>
                <a:off x="5567400" y="1373760"/>
                <a:ext cx="3038400" cy="414360"/>
                <a:chOff x="5567400" y="1373760"/>
                <a:chExt cx="3038400" cy="414360"/>
              </a:xfrm>
            </p:grpSpPr>
            <p:sp>
              <p:nvSpPr>
                <p:cNvPr id="136" name="Rectangle 8"/>
                <p:cNvSpPr/>
                <p:nvPr/>
              </p:nvSpPr>
              <p:spPr>
                <a:xfrm>
                  <a:off x="5643360" y="13737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ocial Development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1"/>
                <p:cNvSpPr/>
                <p:nvPr/>
              </p:nvSpPr>
              <p:spPr>
                <a:xfrm>
                  <a:off x="5567400" y="13737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4"/>
              <p:cNvGrpSpPr/>
              <p:nvPr/>
            </p:nvGrpSpPr>
            <p:grpSpPr>
              <a:xfrm>
                <a:off x="1375200" y="1788120"/>
                <a:ext cx="1432440" cy="1243800"/>
                <a:chOff x="1375200" y="1788120"/>
                <a:chExt cx="1432440" cy="1243800"/>
              </a:xfrm>
            </p:grpSpPr>
            <p:sp>
              <p:nvSpPr>
                <p:cNvPr id="139" name="Rectangle 9"/>
                <p:cNvSpPr/>
                <p:nvPr/>
              </p:nvSpPr>
              <p:spPr>
                <a:xfrm>
                  <a:off x="1451160" y="1788120"/>
                  <a:ext cx="1280160" cy="12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oci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3"/>
                <p:cNvSpPr/>
                <p:nvPr/>
              </p:nvSpPr>
              <p:spPr>
                <a:xfrm>
                  <a:off x="1375200" y="1788120"/>
                  <a:ext cx="1432440" cy="1243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808000" y="1788120"/>
                <a:ext cx="2759040" cy="414720"/>
                <a:chOff x="2808000" y="1788120"/>
                <a:chExt cx="2759040" cy="414720"/>
              </a:xfrm>
            </p:grpSpPr>
            <p:sp>
              <p:nvSpPr>
                <p:cNvPr id="142" name="Rectangle 10"/>
                <p:cNvSpPr/>
                <p:nvPr/>
              </p:nvSpPr>
              <p:spPr>
                <a:xfrm>
                  <a:off x="2883600" y="178812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inal opport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5"/>
                <p:cNvSpPr/>
                <p:nvPr/>
              </p:nvSpPr>
              <p:spPr>
                <a:xfrm>
                  <a:off x="2808000" y="178812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5567400" y="1788120"/>
                <a:ext cx="3038400" cy="414720"/>
                <a:chOff x="5567400" y="1788120"/>
                <a:chExt cx="3038400" cy="414720"/>
              </a:xfrm>
            </p:grpSpPr>
            <p:sp>
              <p:nvSpPr>
                <p:cNvPr id="145" name="Rectangle 11"/>
                <p:cNvSpPr/>
                <p:nvPr/>
              </p:nvSpPr>
              <p:spPr>
                <a:xfrm>
                  <a:off x="5643360" y="178812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Root cases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47"/>
                <p:cNvSpPr/>
                <p:nvPr/>
              </p:nvSpPr>
              <p:spPr>
                <a:xfrm>
                  <a:off x="5567400" y="178812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0"/>
              <p:cNvGrpSpPr/>
              <p:nvPr/>
            </p:nvGrpSpPr>
            <p:grpSpPr>
              <a:xfrm>
                <a:off x="2808000" y="2203200"/>
                <a:ext cx="2759040" cy="414360"/>
                <a:chOff x="2808000" y="2203200"/>
                <a:chExt cx="2759040" cy="414360"/>
              </a:xfrm>
            </p:grpSpPr>
            <p:sp>
              <p:nvSpPr>
                <p:cNvPr id="148" name="Rectangle 12"/>
                <p:cNvSpPr/>
                <p:nvPr/>
              </p:nvSpPr>
              <p:spPr>
                <a:xfrm>
                  <a:off x="2883600" y="2203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ce (criminal ac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9"/>
                <p:cNvSpPr/>
                <p:nvPr/>
              </p:nvSpPr>
              <p:spPr>
                <a:xfrm>
                  <a:off x="2808000" y="2203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5567400" y="2203200"/>
                <a:ext cx="3038400" cy="414360"/>
                <a:chOff x="5567400" y="2203200"/>
                <a:chExt cx="3038400" cy="4143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5643360" y="2203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ing (criminogenic characteristics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567400" y="2203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4"/>
              <p:cNvGrpSpPr/>
              <p:nvPr/>
            </p:nvGrpSpPr>
            <p:grpSpPr>
              <a:xfrm>
                <a:off x="2808000" y="2617560"/>
                <a:ext cx="2759040" cy="414360"/>
                <a:chOff x="2808000" y="2617560"/>
                <a:chExt cx="2759040" cy="414360"/>
              </a:xfrm>
            </p:grpSpPr>
            <p:sp>
              <p:nvSpPr>
                <p:cNvPr id="154" name="Rectangle 14"/>
                <p:cNvSpPr/>
                <p:nvPr/>
              </p:nvSpPr>
              <p:spPr>
                <a:xfrm>
                  <a:off x="2883600" y="26175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(Potential) victim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53"/>
                <p:cNvSpPr/>
                <p:nvPr/>
              </p:nvSpPr>
              <p:spPr>
                <a:xfrm>
                  <a:off x="2808000" y="26175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56"/>
              <p:cNvGrpSpPr/>
              <p:nvPr/>
            </p:nvGrpSpPr>
            <p:grpSpPr>
              <a:xfrm>
                <a:off x="5567400" y="2617560"/>
                <a:ext cx="3038400" cy="414360"/>
                <a:chOff x="5567400" y="2617560"/>
                <a:chExt cx="3038400" cy="414360"/>
              </a:xfrm>
            </p:grpSpPr>
            <p:sp>
              <p:nvSpPr>
                <p:cNvPr id="157" name="Rectangle 15"/>
                <p:cNvSpPr/>
                <p:nvPr/>
              </p:nvSpPr>
              <p:spPr>
                <a:xfrm>
                  <a:off x="5643360" y="26175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e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55"/>
                <p:cNvSpPr/>
                <p:nvPr/>
              </p:nvSpPr>
              <p:spPr>
                <a:xfrm>
                  <a:off x="5567400" y="26175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58"/>
              <p:cNvGrpSpPr/>
              <p:nvPr/>
            </p:nvGrpSpPr>
            <p:grpSpPr>
              <a:xfrm>
                <a:off x="1375200" y="3032280"/>
                <a:ext cx="1432440" cy="518400"/>
                <a:chOff x="1375200" y="3032280"/>
                <a:chExt cx="1432440" cy="518400"/>
              </a:xfrm>
            </p:grpSpPr>
            <p:sp>
              <p:nvSpPr>
                <p:cNvPr id="160" name="Rectangle 16"/>
                <p:cNvSpPr/>
                <p:nvPr/>
              </p:nvSpPr>
              <p:spPr>
                <a:xfrm>
                  <a:off x="1451160" y="30322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e problem addressed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57"/>
                <p:cNvSpPr/>
                <p:nvPr/>
              </p:nvSpPr>
              <p:spPr>
                <a:xfrm>
                  <a:off x="1375200" y="30322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0"/>
              <p:cNvGrpSpPr/>
              <p:nvPr/>
            </p:nvGrpSpPr>
            <p:grpSpPr>
              <a:xfrm>
                <a:off x="2808000" y="3032280"/>
                <a:ext cx="2759040" cy="518400"/>
                <a:chOff x="2808000" y="3032280"/>
                <a:chExt cx="2759040" cy="518400"/>
              </a:xfrm>
            </p:grpSpPr>
            <p:sp>
              <p:nvSpPr>
                <p:cNvPr id="163" name="Rectangle 17"/>
                <p:cNvSpPr/>
                <p:nvPr/>
              </p:nvSpPr>
              <p:spPr>
                <a:xfrm>
                  <a:off x="2883600" y="30322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operty crime; strategy geared toward specific type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2808000" y="30322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62"/>
              <p:cNvGrpSpPr/>
              <p:nvPr/>
            </p:nvGrpSpPr>
            <p:grpSpPr>
              <a:xfrm>
                <a:off x="5567400" y="3032280"/>
                <a:ext cx="3038400" cy="518400"/>
                <a:chOff x="5567400" y="3032280"/>
                <a:chExt cx="3038400" cy="518400"/>
              </a:xfrm>
            </p:grpSpPr>
            <p:sp>
              <p:nvSpPr>
                <p:cNvPr id="166" name="Rectangle 18"/>
                <p:cNvSpPr/>
                <p:nvPr/>
              </p:nvSpPr>
              <p:spPr>
                <a:xfrm>
                  <a:off x="5643360" y="30322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No particular focus: all underlying causes of any potential anti-social behaviou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61"/>
                <p:cNvSpPr/>
                <p:nvPr/>
              </p:nvSpPr>
              <p:spPr>
                <a:xfrm>
                  <a:off x="5567400" y="30322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64"/>
              <p:cNvGrpSpPr/>
              <p:nvPr/>
            </p:nvGrpSpPr>
            <p:grpSpPr>
              <a:xfrm>
                <a:off x="1375200" y="3550680"/>
                <a:ext cx="1432440" cy="518400"/>
                <a:chOff x="1375200" y="3550680"/>
                <a:chExt cx="1432440" cy="518400"/>
              </a:xfrm>
            </p:grpSpPr>
            <p:sp>
              <p:nvSpPr>
                <p:cNvPr id="169" name="Rectangle 19"/>
                <p:cNvSpPr/>
                <p:nvPr/>
              </p:nvSpPr>
              <p:spPr>
                <a:xfrm>
                  <a:off x="1451160" y="35506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Understanding of causes of crim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3"/>
                <p:cNvSpPr/>
                <p:nvPr/>
              </p:nvSpPr>
              <p:spPr>
                <a:xfrm>
                  <a:off x="1375200" y="35506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66"/>
              <p:cNvGrpSpPr/>
              <p:nvPr/>
            </p:nvGrpSpPr>
            <p:grpSpPr>
              <a:xfrm>
                <a:off x="2808000" y="3550680"/>
                <a:ext cx="2759040" cy="518400"/>
                <a:chOff x="2808000" y="3550680"/>
                <a:chExt cx="2759040" cy="51840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2883600" y="35506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pportunity, motivated offender, unguarded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65"/>
                <p:cNvSpPr/>
                <p:nvPr/>
              </p:nvSpPr>
              <p:spPr>
                <a:xfrm>
                  <a:off x="2808000" y="35506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5567400" y="3550680"/>
                <a:ext cx="3038400" cy="518400"/>
                <a:chOff x="5567400" y="3550680"/>
                <a:chExt cx="3038400" cy="518400"/>
              </a:xfrm>
            </p:grpSpPr>
            <p:sp>
              <p:nvSpPr>
                <p:cNvPr id="175" name="Rectangle 21"/>
                <p:cNvSpPr/>
                <p:nvPr/>
              </p:nvSpPr>
              <p:spPr>
                <a:xfrm>
                  <a:off x="5643360" y="35506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ersonal, social, economic, cultural factor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67"/>
                <p:cNvSpPr/>
                <p:nvPr/>
              </p:nvSpPr>
              <p:spPr>
                <a:xfrm>
                  <a:off x="5567400" y="35506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1375200" y="4069080"/>
                <a:ext cx="1432440" cy="518040"/>
                <a:chOff x="1375200" y="4069080"/>
                <a:chExt cx="1432440" cy="518040"/>
              </a:xfrm>
            </p:grpSpPr>
            <p:sp>
              <p:nvSpPr>
                <p:cNvPr id="178" name="Rectangle 22"/>
                <p:cNvSpPr/>
                <p:nvPr/>
              </p:nvSpPr>
              <p:spPr>
                <a:xfrm>
                  <a:off x="1451160" y="4069080"/>
                  <a:ext cx="12801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Basic approach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69"/>
                <p:cNvSpPr/>
                <p:nvPr/>
              </p:nvSpPr>
              <p:spPr>
                <a:xfrm>
                  <a:off x="1375200" y="4069080"/>
                  <a:ext cx="14324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72"/>
              <p:cNvGrpSpPr/>
              <p:nvPr/>
            </p:nvGrpSpPr>
            <p:grpSpPr>
              <a:xfrm>
                <a:off x="2808000" y="4069080"/>
                <a:ext cx="2759040" cy="518040"/>
                <a:chOff x="2808000" y="4069080"/>
                <a:chExt cx="2759040" cy="518040"/>
              </a:xfrm>
            </p:grpSpPr>
            <p:sp>
              <p:nvSpPr>
                <p:cNvPr id="181" name="Rectangle 23"/>
                <p:cNvSpPr/>
                <p:nvPr/>
              </p:nvSpPr>
              <p:spPr>
                <a:xfrm>
                  <a:off x="2883600" y="4069080"/>
                  <a:ext cx="2607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to physic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71"/>
                <p:cNvSpPr/>
                <p:nvPr/>
              </p:nvSpPr>
              <p:spPr>
                <a:xfrm>
                  <a:off x="2808000" y="4069080"/>
                  <a:ext cx="27590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Group 74"/>
              <p:cNvGrpSpPr/>
              <p:nvPr/>
            </p:nvGrpSpPr>
            <p:grpSpPr>
              <a:xfrm>
                <a:off x="5567400" y="4069080"/>
                <a:ext cx="3038400" cy="518040"/>
                <a:chOff x="5567400" y="4069080"/>
                <a:chExt cx="3038400" cy="518040"/>
              </a:xfrm>
            </p:grpSpPr>
            <p:sp>
              <p:nvSpPr>
                <p:cNvPr id="184" name="Rectangle 24"/>
                <p:cNvSpPr/>
                <p:nvPr/>
              </p:nvSpPr>
              <p:spPr>
                <a:xfrm>
                  <a:off x="5643360" y="4069080"/>
                  <a:ext cx="2886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of potential offender, including his/her family &amp; soci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73"/>
                <p:cNvSpPr/>
                <p:nvPr/>
              </p:nvSpPr>
              <p:spPr>
                <a:xfrm>
                  <a:off x="5567400" y="4069080"/>
                  <a:ext cx="303840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1375200" y="4587480"/>
                <a:ext cx="1432440" cy="414720"/>
                <a:chOff x="1375200" y="4587480"/>
                <a:chExt cx="1432440" cy="414720"/>
              </a:xfrm>
            </p:grpSpPr>
            <p:sp>
              <p:nvSpPr>
                <p:cNvPr id="187" name="Rectangle 25"/>
                <p:cNvSpPr/>
                <p:nvPr/>
              </p:nvSpPr>
              <p:spPr>
                <a:xfrm>
                  <a:off x="1451160" y="45874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hilosophy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5"/>
                <p:cNvSpPr/>
                <p:nvPr/>
              </p:nvSpPr>
              <p:spPr>
                <a:xfrm>
                  <a:off x="1375200" y="45874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78"/>
              <p:cNvGrpSpPr/>
              <p:nvPr/>
            </p:nvGrpSpPr>
            <p:grpSpPr>
              <a:xfrm>
                <a:off x="2808000" y="4587480"/>
                <a:ext cx="2759040" cy="414720"/>
                <a:chOff x="2808000" y="4587480"/>
                <a:chExt cx="2759040" cy="41472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2883600" y="45874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agmatic, realistic (manage risk)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7"/>
                <p:cNvSpPr/>
                <p:nvPr/>
              </p:nvSpPr>
              <p:spPr>
                <a:xfrm>
                  <a:off x="2808000" y="45874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80"/>
              <p:cNvGrpSpPr/>
              <p:nvPr/>
            </p:nvGrpSpPr>
            <p:grpSpPr>
              <a:xfrm>
                <a:off x="5567400" y="4587480"/>
                <a:ext cx="3038400" cy="414720"/>
                <a:chOff x="5567400" y="4587480"/>
                <a:chExt cx="3038400" cy="414720"/>
              </a:xfrm>
            </p:grpSpPr>
            <p:sp>
              <p:nvSpPr>
                <p:cNvPr id="193" name="Rectangle 27"/>
                <p:cNvSpPr/>
                <p:nvPr/>
              </p:nvSpPr>
              <p:spPr>
                <a:xfrm>
                  <a:off x="5643360" y="45874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dealistic (improve lives, societ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79"/>
                <p:cNvSpPr/>
                <p:nvPr/>
              </p:nvSpPr>
              <p:spPr>
                <a:xfrm>
                  <a:off x="5567400" y="45874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82"/>
              <p:cNvGrpSpPr/>
              <p:nvPr/>
            </p:nvGrpSpPr>
            <p:grpSpPr>
              <a:xfrm>
                <a:off x="1375200" y="5002200"/>
                <a:ext cx="1432440" cy="414360"/>
                <a:chOff x="1375200" y="5002200"/>
                <a:chExt cx="1432440" cy="414360"/>
              </a:xfrm>
            </p:grpSpPr>
            <p:sp>
              <p:nvSpPr>
                <p:cNvPr id="196" name="Rectangle 28"/>
                <p:cNvSpPr/>
                <p:nvPr/>
              </p:nvSpPr>
              <p:spPr>
                <a:xfrm>
                  <a:off x="1451160" y="500220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Major actor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81"/>
                <p:cNvSpPr/>
                <p:nvPr/>
              </p:nvSpPr>
              <p:spPr>
                <a:xfrm>
                  <a:off x="1375200" y="500220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84"/>
              <p:cNvGrpSpPr/>
              <p:nvPr/>
            </p:nvGrpSpPr>
            <p:grpSpPr>
              <a:xfrm>
                <a:off x="2808000" y="5002200"/>
                <a:ext cx="2759040" cy="414360"/>
                <a:chOff x="2808000" y="5002200"/>
                <a:chExt cx="2759040" cy="414360"/>
              </a:xfrm>
            </p:grpSpPr>
            <p:sp>
              <p:nvSpPr>
                <p:cNvPr id="199" name="Rectangle 29"/>
                <p:cNvSpPr/>
                <p:nvPr/>
              </p:nvSpPr>
              <p:spPr>
                <a:xfrm>
                  <a:off x="2883600" y="5002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otential victim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3"/>
                <p:cNvSpPr/>
                <p:nvPr/>
              </p:nvSpPr>
              <p:spPr>
                <a:xfrm>
                  <a:off x="2808000" y="5002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86"/>
              <p:cNvGrpSpPr/>
              <p:nvPr/>
            </p:nvGrpSpPr>
            <p:grpSpPr>
              <a:xfrm>
                <a:off x="5567400" y="5002200"/>
                <a:ext cx="3038400" cy="414360"/>
                <a:chOff x="5567400" y="5002200"/>
                <a:chExt cx="3038400" cy="414360"/>
              </a:xfrm>
            </p:grpSpPr>
            <p:sp>
              <p:nvSpPr>
                <p:cNvPr id="202" name="Rectangle 30"/>
                <p:cNvSpPr/>
                <p:nvPr/>
              </p:nvSpPr>
              <p:spPr>
                <a:xfrm>
                  <a:off x="5643360" y="5002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Government, communities, famili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85"/>
                <p:cNvSpPr/>
                <p:nvPr/>
              </p:nvSpPr>
              <p:spPr>
                <a:xfrm>
                  <a:off x="5567400" y="5002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8"/>
              <p:cNvGrpSpPr/>
              <p:nvPr/>
            </p:nvGrpSpPr>
            <p:grpSpPr>
              <a:xfrm>
                <a:off x="1375200" y="5416920"/>
                <a:ext cx="1432440" cy="414360"/>
                <a:chOff x="1375200" y="5416920"/>
                <a:chExt cx="1432440" cy="414360"/>
              </a:xfrm>
            </p:grpSpPr>
            <p:sp>
              <p:nvSpPr>
                <p:cNvPr id="205" name="Rectangle 31"/>
                <p:cNvSpPr/>
                <p:nvPr/>
              </p:nvSpPr>
              <p:spPr>
                <a:xfrm>
                  <a:off x="1451160" y="541692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nstitution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87"/>
                <p:cNvSpPr/>
                <p:nvPr/>
              </p:nvSpPr>
              <p:spPr>
                <a:xfrm>
                  <a:off x="1375200" y="541692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90"/>
              <p:cNvGrpSpPr/>
              <p:nvPr/>
            </p:nvGrpSpPr>
            <p:grpSpPr>
              <a:xfrm>
                <a:off x="2808000" y="5416920"/>
                <a:ext cx="2759040" cy="414360"/>
                <a:chOff x="2808000" y="5416920"/>
                <a:chExt cx="2759040" cy="414360"/>
              </a:xfrm>
            </p:grpSpPr>
            <p:sp>
              <p:nvSpPr>
                <p:cNvPr id="208" name="Rectangle 32"/>
                <p:cNvSpPr/>
                <p:nvPr/>
              </p:nvSpPr>
              <p:spPr>
                <a:xfrm>
                  <a:off x="2883600" y="541692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lace/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89"/>
                <p:cNvSpPr/>
                <p:nvPr/>
              </p:nvSpPr>
              <p:spPr>
                <a:xfrm>
                  <a:off x="2808000" y="541692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92"/>
              <p:cNvGrpSpPr/>
              <p:nvPr/>
            </p:nvGrpSpPr>
            <p:grpSpPr>
              <a:xfrm>
                <a:off x="5567400" y="5416920"/>
                <a:ext cx="3038400" cy="414360"/>
                <a:chOff x="5567400" y="5416920"/>
                <a:chExt cx="3038400" cy="414360"/>
              </a:xfrm>
            </p:grpSpPr>
            <p:sp>
              <p:nvSpPr>
                <p:cNvPr id="211" name="Rectangle 33"/>
                <p:cNvSpPr/>
                <p:nvPr/>
              </p:nvSpPr>
              <p:spPr>
                <a:xfrm>
                  <a:off x="5643360" y="541692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amily, school, labour market, 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91"/>
                <p:cNvSpPr/>
                <p:nvPr/>
              </p:nvSpPr>
              <p:spPr>
                <a:xfrm>
                  <a:off x="5567400" y="541692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94"/>
              <p:cNvGrpSpPr/>
              <p:nvPr/>
            </p:nvGrpSpPr>
            <p:grpSpPr>
              <a:xfrm>
                <a:off x="1375200" y="5831280"/>
                <a:ext cx="1432440" cy="414720"/>
                <a:chOff x="1375200" y="5831280"/>
                <a:chExt cx="1432440" cy="414720"/>
              </a:xfrm>
            </p:grpSpPr>
            <p:sp>
              <p:nvSpPr>
                <p:cNvPr id="214" name="Rectangle 34"/>
                <p:cNvSpPr/>
                <p:nvPr/>
              </p:nvSpPr>
              <p:spPr>
                <a:xfrm>
                  <a:off x="1451160" y="58312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Temporal scop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1375200" y="58312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96"/>
              <p:cNvGrpSpPr/>
              <p:nvPr/>
            </p:nvGrpSpPr>
            <p:grpSpPr>
              <a:xfrm>
                <a:off x="2808000" y="5831280"/>
                <a:ext cx="2759040" cy="414720"/>
                <a:chOff x="2808000" y="5831280"/>
                <a:chExt cx="2759040" cy="414720"/>
              </a:xfrm>
            </p:grpSpPr>
            <p:sp>
              <p:nvSpPr>
                <p:cNvPr id="217" name="Rectangle 35"/>
                <p:cNvSpPr/>
                <p:nvPr/>
              </p:nvSpPr>
              <p:spPr>
                <a:xfrm>
                  <a:off x="2883600" y="58312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hort-term (temporar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95"/>
                <p:cNvSpPr/>
                <p:nvPr/>
              </p:nvSpPr>
              <p:spPr>
                <a:xfrm>
                  <a:off x="2808000" y="58312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98"/>
              <p:cNvGrpSpPr/>
              <p:nvPr/>
            </p:nvGrpSpPr>
            <p:grpSpPr>
              <a:xfrm>
                <a:off x="5567400" y="5831280"/>
                <a:ext cx="3038400" cy="414720"/>
                <a:chOff x="5567400" y="5831280"/>
                <a:chExt cx="3038400" cy="414720"/>
              </a:xfrm>
            </p:grpSpPr>
            <p:sp>
              <p:nvSpPr>
                <p:cNvPr id="220" name="Rectangle 36"/>
                <p:cNvSpPr/>
                <p:nvPr/>
              </p:nvSpPr>
              <p:spPr>
                <a:xfrm>
                  <a:off x="5643360" y="58312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Long-term (permanen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97"/>
                <p:cNvSpPr/>
                <p:nvPr/>
              </p:nvSpPr>
              <p:spPr>
                <a:xfrm>
                  <a:off x="5567400" y="58312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Rectangle 100"/>
            <p:cNvSpPr/>
            <p:nvPr/>
          </p:nvSpPr>
          <p:spPr>
            <a:xfrm>
              <a:off x="1371600" y="1371600"/>
              <a:ext cx="7238520" cy="487692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v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Theories of crime causation underlying SC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Definitions &amp; descri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vs. social development crime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t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Field exerc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CP involves the management, design, or manipulation of the immediate physical environ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Primary objective: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reduce the opportunit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criminal activ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Opportunity for reducing crime can be pursued by: (i) “organizing” the immediate physical environment or (ii) organizing individuals (e.g.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Critiques: only addresses symptoms (not root causes); does not prevent crime, may only deflect/displace 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Theoretical Assumptions of Crime Causa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outine Activity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Every crime involves three elements: an offender, a target, &amp; an insufficiently guarded environment (thus, must address one or all thre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ational Choice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inals make rational choices (not randomly) &amp; thus can be deterred from crim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rime Pattern Theory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– There exists spatial &amp; temporal 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paths that bring offenders &amp; victims together at certain location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ffender Search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e is opportunistic; offenders respond to cues given out by the environment (thus, must focus on reducing opportunitie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roken Windows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Disorder &amp; incivility problems lead to more serious crime in a neighborhood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eeks to explain the supply of criminal opportunities in a particular place &amp;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dentifies three minimal elements that must be present for a predatory crim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likely offen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suitable targ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sufficiently guarded enviro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prevention should address the convergence of these three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3" descr="Figure 2.1.jpg"/>
          <p:cNvPicPr/>
          <p:nvPr/>
        </p:nvPicPr>
        <p:blipFill>
          <a:blip r:embed="rId1"/>
          <a:stretch/>
        </p:blipFill>
        <p:spPr>
          <a:xfrm>
            <a:off x="3132000" y="1916280"/>
            <a:ext cx="340992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ational Choice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ory of human decision-mak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s make rational choices (&amp; not randomly, therefore uncontrollably) &amp; thus can be deterred from cr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 potential criminal is seen as a self-maximizing decision-maker who  calculates  advantages &amp; disadvantages associated with specific criminal 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refore, prevention is aimed at altering the decision-making process to increase the risks/effort or decrease potential rewards of offend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ffender Search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ost (property) crime is opportunist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pportunistic behavior is provoked by cues given out by the environment (including specific design featur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se “releaser cues” stimulate the release of otherwise inhibited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Releaser cues (e.g., specific design features, low informal social control, etc.) communicate to a potential offender that acts of vandalism or crime are acceptable or attainable in certain situations/environ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me Pattern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nvironmental Criminolog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is concerned with how environmental or contextual factors (time, space, physical properties) can influence the decision-making process of the criminal offende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nalyzes the “location of crimes, characteristics of those locations, the movement paths that bring offenders &amp; victims together at those locations, &amp; people’s perception of crime  locations” (Brantingham &amp; Brantingham, 1981, 8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 acts do not occur randomly in time or space, but are influenced by the routine movements of offenders &amp; victi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criminal victimization can be predicted &amp; prev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39:15Z</dcterms:created>
  <dc:creator>Stephen Schneider</dc:creator>
  <dc:description/>
  <dc:language>en-US</dc:language>
  <cp:lastModifiedBy>Lindens</cp:lastModifiedBy>
  <dcterms:modified xsi:type="dcterms:W3CDTF">2014-04-28T13:30:17Z</dcterms:modified>
  <cp:revision>63</cp:revision>
  <dc:subject/>
  <dc:title>JUS 500:  THE THEORY AND PRACTICE OF CRIME PREVENTION</dc:title>
</cp:coreProperties>
</file>